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0141EA-EC55-4EE3-AE2D-7BF8216F7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8869C2-B1B2-4050-A594-1E2ADAF48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B344B4-A137-4E26-BA23-D1116480A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194-C9C4-4EC7-B93B-C17F04C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ADC-21C7-4C66-BF60-0EB90832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23F-6113-4BC9-BE49-A6E91B4A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2C4-7B45-4B93-BBD2-5D59B9A0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DFB-7812-4890-859B-785B09D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F05-63BB-4A66-B520-0CCA99F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368-9B96-410D-B35B-FE12E2D0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76B-B27F-4690-935D-637D427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EDB-A58E-4230-830E-639536F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ACF-1625-4688-8976-B275210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99B-4343-47FE-87B8-5EF4498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EA9-8F21-4DB6-A0C3-AFB70BD3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75CD98-280B-4C77-8D40-618DCFABD07F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C10DB8-8712-4285-A0D3-E67C51255507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n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egorize spelling words into 2 groups; short a and short i vowel 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.  cat        s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n     ch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mo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rite homophones for the following words. Then write a sentence for each of the word pairs. ex. (meet, meat) I will meet my friend at the park.  My mom will buy meat for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bare, red, see, blue, su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Grammar)  Adding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ke the following sentences more interesting by adding more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. I see a house.  I see a big green house with a ga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y dog runs fa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ger is in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abbit hops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at is by the fire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ve cows are in the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character sketch about someone you know (a relative or a friend).  Tell what the person is like.  Describe how they look.  What things do they say that make you smile or laugh?  Tell about their character (honest, responsible, fair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ragon Gets By.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9:24:00Z</dcterms:created>
  <dc:creator> </dc:creator>
  <dc:description/>
  <dc:language>en-US</dc:language>
  <cp:lastModifiedBy> </cp:lastModifiedBy>
  <cp:lastPrinted>2009-03-12T10:54:35Z</cp:lastPrinted>
  <dcterms:modified xsi:type="dcterms:W3CDTF">2009-09-07T22:13:45Z</dcterms:modified>
  <cp:revision>14</cp:revision>
  <dc:subject/>
  <dc:title>Slide 1</dc:title>
</cp:coreProperties>
</file>